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98B-D4F7-490E-B7B8-87EE0A0A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C36-9712-4091-8349-1BCFC367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9D8-C1E5-460A-9AFB-BB07633C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B71-BB1B-4E6F-A111-5909C260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E07-6D3A-42CF-901A-5A3A5837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682-57CB-4D17-8978-D393B245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6D9-90BC-4CF4-BEBE-C734A476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8A1-BF5A-441E-990E-33F3FECF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67A-9593-4924-9F3A-9E0B1C3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213-D848-481E-8D9E-C9EBB427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6EF-EBE2-4919-B30C-C0E8897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5F0-28FB-4EF4-B064-72AE161F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4936-A6B8-4994-873E-773F69AC3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523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Proper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duce a change in the composition (make up) of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286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only observ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se changes when substances in a sample of matter are changing into different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200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examples of chem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ow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lammable a material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4038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lammability –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aterials ability to burn in presence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876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ood, or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activity = how readily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asy) a substance combines chemically with othe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600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xygen – high reactivity; nitrogen – lo 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209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Chemic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90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 chang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ke place when a substance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reacts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and forms a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vidence for chem.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038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hange in color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: copper roof on house (figure 19, pg. 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7692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duction of a gas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: vinegar and baking soda </a:t>
            </a:r>
            <a:r>
              <a:rPr b="0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ormation of a precipitate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solid which form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nd separates from a liquid EX: acid and mi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286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 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composition (make-up), is there a change of the matter into something n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9718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?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?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tell if a change is physical or 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Unknown substance cannot be broken down into a simpler substance,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CorShape1"/>
          <p:cNvSpPr/>
          <p:nvPr/>
        </p:nvSpPr>
        <p:spPr>
          <a:xfrm>
            <a:off x="223920" y="398304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f one kind of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2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heterogen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in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r of mixed n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inless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rShape1"/>
          <p:cNvSpPr/>
          <p:nvPr/>
        </p:nvSpPr>
        <p:spPr>
          <a:xfrm>
            <a:off x="254160" y="318276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pure subs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1743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that is malleable and conducts electricity is most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CorShape1"/>
          <p:cNvSpPr/>
          <p:nvPr/>
        </p:nvSpPr>
        <p:spPr>
          <a:xfrm>
            <a:off x="2590920" y="23623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phys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609480" y="1841400"/>
          <a:ext cx="866160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41400"/>
                    <a:ext cx="866160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wing a piece of wood in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ning a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t forming on an iron 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pper roof changing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rShape1"/>
          <p:cNvSpPr/>
          <p:nvPr/>
        </p:nvSpPr>
        <p:spPr>
          <a:xfrm>
            <a:off x="1163520" y="212400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evidence of a chem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609480" y="1828800"/>
          <a:ext cx="866160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66160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CorShape1"/>
          <p:cNvSpPr/>
          <p:nvPr/>
        </p:nvSpPr>
        <p:spPr>
          <a:xfrm>
            <a:off x="990720" y="4167360"/>
            <a:ext cx="507960" cy="507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changes color when h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bubbles form in boil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ls of wax form when melted wax is poured into ice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as forms when vinegar and baking soda are m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8:05:59Z</dcterms:created>
  <dc:creator>Farwell Area Schools</dc:creator>
  <dc:description/>
  <dc:language>en-US</dc:language>
  <cp:lastModifiedBy>Customer</cp:lastModifiedBy>
  <dcterms:modified xsi:type="dcterms:W3CDTF">2009-10-12T12:41:41Z</dcterms:modified>
  <cp:revision>16</cp:revision>
  <dc:subject/>
  <dc:title>Note Guide 3-3</dc:title>
</cp:coreProperties>
</file>